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F4B-DDA1-4CB0-85A4-0E2D2EFB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63B-C845-4560-9D0D-105D8EB0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A4A-4A52-44C5-B5D3-D9098985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599-C6E4-43EE-9140-500147B4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47A4-F1BD-4601-89D1-B8B1D18E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AB7F-6FE5-4E02-940A-521008B2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CA5F-6C94-42FE-814C-D7C70B54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C7B8-BDDC-48D8-BF8A-2B8C29DE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EF08-0A8B-487A-93BA-6B95C957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735F-D447-4A08-819B-FEC2C46B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17F5-6A4C-4E87-A694-31AAA21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C92-1C88-4B33-9B34-6454E382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1BD0-5CB2-408A-8E0E-D59E56AD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994C-1E59-4B8E-A5F6-52CC356E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9609-763F-48EE-89DA-F6AFB65B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B9A0-90EC-407F-A6B2-626F9368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051C-11F9-4A9D-8825-ACBCD496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A15-0078-479E-90FA-1D15CA4F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B45-AEA5-4DA9-B190-A94377C3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D18-33C4-4602-9333-07D3CB39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762-03CF-49CA-AEAF-351E165A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59B-DC3A-4818-84CD-1B2509D0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B6F-F503-41E7-AD45-F160190A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407-B281-4563-BFFC-0DDE9F2F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1782-F151-4595-9DAA-1D282515E0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7FD1-91A2-41D2-9E87-BF9A4D31FD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ilentspring.org/" TargetMode="External"/><Relationship Id="rId2" Type="http://schemas.openxmlformats.org/officeDocument/2006/relationships/hyperlink" Target="http://www.apen4ej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ink Globally, Act Locally: Global Warming and Richmond, C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chel Sam, MS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yme Dis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914400" y="1014480"/>
            <a:ext cx="74674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ngue Fe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57200" y="1287360"/>
            <a:ext cx="83059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king Global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3622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609480" y="5562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O estimated mortality attributable to climate change in 2000 (CVD, diarrhea, malaria, flooding, malnutrition). Nature, Nov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to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ns. Malaria, Dengue Fever, Lyme Disease? Not very realis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t Wave Related Events and Prepared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ted to LOP’s multilingual emergency response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ergies – High rates of asthma and SAR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nowlton et al. The 2006 California Heat Wave: Impacts on Hospitalizations and Emergency Department Visits. Environ Health Perspect 117:61–67 (2009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ss et al. Climate Change, The Importance of Place. Am J Prev Med 2008;35(5):468–478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cMichael et al. Climate change and human health: present and future risks. Lancet 2006; 367: 859–6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mpbell-Lendrum et al. Climate change: Quantifying the health impact at national and local levels. WHO Public Health and the Environment, Geneva 2007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bi et al. Community-Based Adaptation to the Health Impacts of Climate Change. Am J Prev Med 2008;35(5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umkin et al. Climate Change: The Public Health Response. Am J Public Health. 2008;98:435–44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tz et al. Impact of regional climate change on human health. Nature Vol 438|17 November 200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ines et al. Health Effects of Climate Change. JAMA, January 7, 2004—Vol 291, No.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 Census Bure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ilentspring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apen4ej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ichmond Demographics – Environmental Racis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295280"/>
          <a:ext cx="8915400" cy="5432400"/>
        </p:xfrm>
        <a:graphic>
          <a:graphicData uri="http://schemas.openxmlformats.org/drawingml/2006/table">
            <a:tbl>
              <a:tblPr/>
              <a:tblGrid>
                <a:gridCol w="2438280"/>
                <a:gridCol w="1219320"/>
                <a:gridCol w="990360"/>
                <a:gridCol w="990720"/>
                <a:gridCol w="1143000"/>
                <a:gridCol w="990720"/>
                <a:gridCol w="11430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 Census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mond, CA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ot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i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1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2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of Richmond 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Household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4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,5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9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3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3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Household 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5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4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2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6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s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chmond and the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ong history of environmental activism, esp. re: Chevr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st County Toxics Coalition – group of local organizations led by Henry Cla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ies for a Better Enviro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ian Pacific Environmental Network (APEN) and Laotian Outreach Pro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, founded in 1993, its mission is to empower low-income API communities to achieve environmental and social just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ect organizing in local commun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twork buil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racial alliances to affect regional and national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 – LO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anch of APEN specifically created to address the needs of the Laotian community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ship base of 200 families and 20 lea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rm Nompraseurt, Lead Organizer. Featured in “Unnatural Caus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P - Fighting Fire with F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March 1999 chemical explosion at Chevron revealed CC County’s inadequate English Only emergency response system, the LOP got the county to implement a multilingual emergency phone alert sy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ying to Stop the New Chevron Incinera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-LOP, Communities for a Better Environment, and the West Toxics Coalition are suing the city of Richmond over the city council’s decision to allow Chevron to proceed without public input or proper environmental revie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Warming and Richm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EN: How does global warming affect the health of people in Richmond and Contra Coun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ing Global Tem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4191120" y="3513240"/>
            <a:ext cx="4952880" cy="334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76320" y="1447920"/>
            <a:ext cx="426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1:56:45Z</dcterms:created>
  <dc:creator>Michel Sam</dc:creator>
  <dc:description/>
  <dc:language>en-US</dc:language>
  <cp:lastModifiedBy>lthomas</cp:lastModifiedBy>
  <dcterms:modified xsi:type="dcterms:W3CDTF">2009-04-07T15:38:07Z</dcterms:modified>
  <cp:revision>10</cp:revision>
  <dc:subject/>
  <dc:title>Think Globally, Act Locally: Global Warming and Richmond, CA</dc:title>
</cp:coreProperties>
</file>